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75C-5207-4EC0-8BB7-4A71E20B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47E-BB28-4742-8C27-B0A7AF03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3A2D8-5F0A-47F9-A2FB-106D7400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51A88-625C-4FDD-8DE2-5FE52FBB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15600-C5B8-427F-A7DA-4CBBBC1F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42B70-1B2A-40A1-9202-5F3AFD7A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DAFA7-0691-4C3E-9901-D6BF7EA0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B35A3-D961-42AA-B1D2-A4FB82D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528C7-E70E-4A6B-95CC-04378429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F9463-06B3-415E-9447-88827724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86AB7-75AF-443F-B1C6-29E1DF47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0157D-917F-4762-81F5-973DA299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2D9-7A9A-45A2-8025-034CFA32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381CA-EA79-47CD-872B-0701B659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5ECB6-0C7A-4952-8BB6-2E2F6AF3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88959-03FE-4C2E-81E1-74005CDD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4D634-E1D1-4C57-9EF7-F2DFBB6B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09CB7-47D8-404B-AF41-4789210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6F8E1-1354-4088-9FE8-4D9BBD1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417C8-08F7-4E41-B9A0-80FD8A9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8C92E-A54A-4544-A05D-2AC7ECF6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7B197-529A-43B6-824F-5A998007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09AFE-A184-456B-BB27-C8303B76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658-2D34-4EFC-AE42-FACBE23A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7AEE0-40BA-43DA-82D4-77F162A2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7E840-76E8-438C-AE92-5D00E773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1FB70-B688-478F-9A5C-C789C4A5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FC245-6E02-46BA-8662-6C59C86C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A6993-D5F3-4367-8FC8-C0E85103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E1B89-346A-41C7-AF9A-BD8C63DC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8754A-3CD3-4DA5-9462-AE662674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AF3ED-06E3-47F4-AFDB-5403C07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097C-1CC0-4CCD-887F-EC591BCD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36EB0-AA99-48B6-ADE3-4D08A88E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EC9C-C51B-4246-982C-0C880DDC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70152-5BFE-46B2-B536-7E084F21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3B583-B052-433E-BE15-36EDA8C4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8932B-B762-4539-81E0-9BE57E10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AED05-0805-47C4-AFD3-A1153C30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A88D4-15A3-4403-A0A7-43D6C2BA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6B739-2DBF-47F6-A677-876DFB2D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56E75-1D7C-45CC-B289-80C77A1A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CB6D6-DA2D-4EAF-894E-B4ADB06B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D665E-110E-4608-BD76-67F4B057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0BC58-5335-468F-B8C4-0181084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7395-B11C-4238-88BA-D1D3EE2A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6F6B1-28D0-4E0D-BAC3-807AF5AA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AA3A7-5E12-469B-A55C-E4930BD4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8D65C-EABB-49E2-8947-FED4CEE1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1E39E-AC2C-474E-98B3-8E9D84CB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EF15B-A9F9-480F-A573-FA5CC46E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45674-A594-49C2-A64D-8C0C225C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721F9-5DCD-4780-B2E0-D5222A1A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7F094-0B62-49CE-B079-ADDC6EC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56061-B712-4836-8046-6AD1F50B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2465F-F5D6-48E8-A9DB-F487FCDE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D9AA-F60C-4E61-9811-8701A4C8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0E544-06F6-454A-AB11-6048DCC8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30AE3-D139-4A56-8B38-A35E8933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FFED3-36B5-4A84-9CD6-7BA1E75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2A02C-E1F0-4CE8-9552-8F21A75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ADA6B-A777-4FB2-95C7-EA660AC9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51CAA-41DC-4BE4-9BE7-C91C0689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084F3-367D-4ABA-BCC3-E8953E2A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030EA-B104-4C81-8190-EA68B5FB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5B1EF-0909-4CB5-BD55-7A610E10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820C3-0CD5-4205-9327-E526E1CA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6122-8289-4EC1-9EF5-0EDC9892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DF84D-7322-42C3-A270-87228FF7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B6D7E-1976-47EF-8D78-956FD07B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E6B07-4798-4AD5-98AE-28E5992F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1EF6A-5175-487D-B4FE-71A6FF34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4330D-97DE-46F7-AAB3-62B1F15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85178-AA00-42FC-BBBC-F866323F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BCD5C-21FB-4817-86B9-8B251540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50DB6-32ED-4B41-AFCB-A6A50DCE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E0A16-8DA9-49C5-A591-B399ABF5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7E44E-6DC8-486F-862D-910D6C32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8B9F-5583-4105-8F3F-F5018922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4CF67-B102-4DFF-84E8-39098A6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7436C-C9FF-43A6-A851-E0B99371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786BA-5686-44D9-862B-1088228E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64D78-EB84-4CAD-8976-7B086D09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D956F-79F9-44A7-9F74-8969442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DEBE9-663F-4E22-B502-034CA458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E4DDD-3B45-4320-8449-863243B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1B674-3E28-44DB-BD7C-469C201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42EE4-346A-44FE-80E7-9BE7DEC9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157D6-030D-48E4-94FC-3142C40A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9767-5B42-4698-9D7C-BF8794F8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FB4F1-7867-4EA0-BDF5-D7F22E92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F76C2-FCC0-4749-8238-9D73E29C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0A8F2-8B39-49DE-A108-43D7F285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3ED193-E12A-4D71-A13B-F1C5EBDC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470A4-528E-4B9D-A7B8-3582ED59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40EBF-29CD-429B-AE7C-4CF0DABE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EFE05-C1DB-4754-8021-59B25726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969FB-E630-4BCF-99BE-2B06367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2F9EF-FFC3-4758-92FB-A841431C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14C235-E46A-48CC-A6F5-2FBED96C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0072-4A98-43D9-B2DE-E1596D7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AA9B0-920D-4522-9EAD-EFE31A0F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A01DD-B0FC-4225-84CE-C43B3C4A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B5EBD-47FD-41EB-97BC-21E2D0D7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CFA47-8885-4B40-8E08-F569F02A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FBD98-AE63-4DF0-B4BF-FB5845F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39D7A-038B-4411-8F6B-3824F810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5A41C-5058-4C22-AE3A-618B289E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DA6DB-78F1-49E6-8FD6-2ED43994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3D607-9B3E-4C5C-A4B8-67AD090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AE203-11B0-4B25-9CEB-8413864A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306-88E3-4C2D-8FFA-16E87D49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7FB4-4C9A-49CB-8715-2781D669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D5BAE-24C8-4E59-AD93-55FA2BAC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3F1D5-3BA7-49EC-A1A0-C2B384AD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56B79-75CB-4D38-B2C9-06BDE9C5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43E7E-0ED7-4653-85ED-4D6F7646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74D17-46DD-4F65-A892-B7841747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C80B2-3EDB-4E97-ACD2-F1EEF9F2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A0E97-3BD1-41D6-AF4F-8DF1D8DE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1604A6-00DF-4891-B2E6-BF0F44B0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81D2B-345A-4960-A115-63D73710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968DC-D732-4EAD-BA4B-5677B0DE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FD88-1BD7-4902-A7A4-9B16A7E1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94277-C478-43AB-A94A-2218994C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D4D93-9C15-40E5-B25A-C8D2BB1A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4F222-581E-416D-842B-8DD19A4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036F6-A141-455B-A20F-0557BC7E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FC7996-C386-4E64-9C2C-D27F243B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00E43-349B-4625-AD8E-4BA8FC50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7B29D-ED1B-4C33-960D-B6232C90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EB1492-5996-40EA-866F-23AA6701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EBE3A-B4C5-454C-BB5B-AAD1B267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DB5383-2F68-4858-8953-8EA24725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0F0C-588D-4FDF-B72E-BEC6E424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75955A-A479-4F28-B4CB-8905B14E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69F91F-772D-4F86-90A2-B03C5DE5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F6F16-22DF-4B79-A8D6-18470F77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247E1-C9C1-43AF-BE4F-7B5F1D05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A4793B-FA03-46D0-836B-9EFD2A9D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57179-1078-4392-A678-39CFABE5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2FC2C-5C2D-405C-BA56-A816AA33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C49D2-A3DC-44BF-A972-4998818F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89FDA-5E46-4C81-A47D-BE504E4D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0D7FD-33FD-4F4F-B95A-64877472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D9D2-11E0-466E-AF90-8D627400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056AF-595A-449D-9324-E8489E49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88F134-335A-44FD-B2DE-8BC32278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E4DF3-5C93-4676-865D-025600F0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A6351-FC78-414C-8532-786E0599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BFA83-8D77-49A8-B2D3-5B1D2F2D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4FEB8-1FC0-449C-8E2F-F59DF798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85305-16FC-4547-93AA-F98E3F1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339FB-040B-439F-9A9A-E4CB469F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073E71-5354-417A-9AAA-505513D2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F7D86-019E-4A78-BC6F-07B1CE82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82DF-68E1-47A6-A73A-A6EB02C2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8F888-2949-457C-AC6A-E9372902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1D626-C1F7-4830-849D-3369FAF3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1E156-472A-4EA4-9711-57CE8088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6FCC9-0432-4758-8AA1-DC40F87F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2325F-7B45-401A-A794-039EEFF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0D27E-7014-42DA-A560-AD73701B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1FC86F-189C-4BF2-97CA-C281F9E5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CE62D-21F5-403F-B2C4-B4EA89B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4C0CF-6E16-4640-868A-CCBF80DE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75F5EF-0221-4861-BD64-8E58282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2F03-1168-4595-9162-3B50F2A6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E15540-C040-414F-BA1A-C70C9B4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CC6053-FC3A-4B4E-841E-26C257B6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02B6A4-EBB1-4C22-889F-439E196B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31814B-70C7-4DFF-A747-29FCB6D7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58E5CF-B104-4622-917D-63008BC8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B6121F-3197-43E7-B924-C53F74E2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A2CF85-BBF5-4EEC-A73A-2AFA3EE6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5DC1A9-664B-4E41-B3EE-0B869E81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0C6779-5859-4A5C-81A0-7F2520DB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6466DB-81D1-465B-BC48-4B38A9D1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5D8B-38EF-4163-A6B8-08B8F26D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C55CD9-8CF5-49AB-9EB8-EAE2BF9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55C5B1-891F-4ED1-8D44-5242C34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6DCEFA-1FE3-4968-9FD0-01C5E70E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7E1DBB-9617-4203-B9FD-68148A2E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49DA7-FF17-4B7F-B149-6A5C69A5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023D40-6396-4AC2-8B3A-AD809BFA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F4DEF-B2F4-4A14-9866-E350E20D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EB1538-B16E-4963-AB9B-D528D081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639665-9930-4FEC-AC75-663718E6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F6F26B-CAAB-4F0C-BC39-5D4C6D3B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8E00-3B78-4498-A458-4E44B3CB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B8B0A9-EADF-4C28-A6E7-3AC6CDC9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E7A2B7-96B9-430D-A338-067EF28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F6AB7D-B039-48CE-AE25-FB05F50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547B26-833C-47E0-8812-797D0FEB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DC6B95-9A8A-4B3F-B595-DABE5EBC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1CD884-7C99-441E-B523-0A60F501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AF9FF2-4DDF-46DD-B098-234C1683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97AB-FFE9-46C3-B9CE-96047D22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5862-C3E6-4C3D-B660-80295396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DD1-CCA4-4F05-822E-EBB9F283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0C2C-AB1C-4EBD-AB60-508CA778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7822-F738-471F-A01E-5307FFC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4A3D-13F8-476D-99F7-6DE9B76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BB0F-6A31-45DB-9BE8-02A3287E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88DA-920C-4444-8B55-6DF0BE05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77E4-00A4-4118-AFBA-4CE39A82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4C89-A1C3-40EB-B0B6-84925717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DAEAB-D038-45DC-86BC-A7BB6050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39F5F-A999-41EC-A5E7-404EAC01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17627-5D10-4F75-892B-692327EA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E6D-58B5-49E3-8A57-9A26C042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A98D-A18F-4BC1-8815-8A12611C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F5D61-D4FE-4E90-A81E-69C5B4A9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5AB8A-3FE4-46BC-BEE5-92233AA5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C8C3-692E-457E-A5F8-565320D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D39E-675D-4618-AA04-D2670B5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E016-222E-4F8E-9CDB-9EB58041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C0F7-B604-48D7-ABE1-2CBFA06D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2EE1-A430-4386-A131-DA4E6F05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E692-203C-45F4-983D-76FEF4D7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5C822-6F5D-4869-8A8F-2DAD03B4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42A-0E1D-4B5B-964F-BC325A10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6893-1F8A-4516-B502-2422F8C0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16508-6B4C-4DF6-A0B0-FA166EBA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A6213-047E-4DA6-8E84-30C7C3A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A7C8C-1A2E-422E-90E8-B7EBDAA9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1483-03E5-47E7-9AB9-555B0DBA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7E3D-BABE-488D-A6ED-F8956F56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68F7A-1EC4-4F42-8654-1DDF81D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6669-A788-43AB-8219-44BBD31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2D133-26A9-4F42-90C5-033FF2A0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ECDF-696C-4B85-B8AB-6D456D21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103-57AB-4BCB-8636-ACC54741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E1F5D-9188-46D5-88C8-4B46AB09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A9EA6-1639-4A28-92A4-05023145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D56CC-97BB-4E5A-88A3-94A658CF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4BF16-2A91-46D4-8369-110A6B1C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9973D-12ED-4997-AE1C-37FBAD2A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2B32A-0469-486B-BB06-615D1540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50ED-7DCE-4F19-8C7E-7A259148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0996F-4136-4D2E-A580-77001A18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35DE-00C7-4942-BD6D-2779658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77FE-FEA6-43CE-8E77-300D7999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E26-0EAD-4DFD-BF92-05A2E40D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D075B-4DC6-42F7-A9E8-349590F1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85EBA-EA46-40F1-A94C-A065817E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2E27-8F9E-4655-8EA8-B3B76D70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897B6-A73B-458E-B0C7-CBB738FF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B3F2E-63D7-426B-A819-185E3D2A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2EAB3-3CA9-4225-8D2A-0A6C255A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1909-F8C4-4DC7-BF06-7E1992CF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525D-62E9-4109-B68B-2977AF9F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087C5-71B0-45C0-9E94-0E3BF94F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D6523-86F8-404D-8551-2ECA36FD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D80-5A53-417C-B7A4-1EF06F9A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C0324-15CD-42AB-B1ED-47755C0F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755F9-78DA-46D3-8BEC-AEC2433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5AF8-C218-41C4-87B0-06D8E4A8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2F0B1-930A-4149-9D4F-4571CCB5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1E791-5D83-4520-93F3-BC9D9346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20B60-622A-4BE2-9B46-6EA52DEB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5CE51-21DD-42F5-97DC-A6085656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F4AB1-C3CF-4704-9827-35371D7F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5D6ED-5393-4EE5-AD8B-1B6F460E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44BEC-C5FF-45E2-8C32-277DD447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97F-EDF0-4D5E-B4DD-3FB39C5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8FCE8-0EB5-468C-A39E-3CAA7C40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5A9F3-BB1E-4796-BA75-A10A336B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C1639-3EE8-4465-AADE-7FD6116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D985B-C442-49AC-AB9C-CBEFD2A5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27E47-BF2E-4DB8-BBDC-070917CB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85510-66FC-421B-90CA-A55D2CA2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5BA6A-E9AC-419B-9143-00BF4890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46D57-5DAA-4127-BCF6-1148A295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66698-D461-48AD-A516-08A3971C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392D8-822B-4B31-9256-BAE821D5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8146-BE63-4FE8-A806-22C206628A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16C5-920E-41DA-A9FF-E973F8427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B726-FF00-4103-8BA0-AD308C1D1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2814-C96F-48FC-B896-137CB5DB59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551F-128B-4530-99C3-D690B76DA2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10FA-813F-4351-9F14-ED246D2120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578-19AC-4399-ABFE-E6D57D5EC6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D901-8E0B-4BE9-9EBE-C36EA77ACE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A148-A747-4A7E-AE77-E8F65C40F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89CA-09B7-4F72-8E03-916428BEDE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1E4D-BE62-4778-8044-62BC4BA2A2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4853-160D-4937-A4EC-77B7A21AAE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D544-1C99-4744-B5B4-C850828656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A376-1077-46BB-86B7-A2B5CDD6C7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387F-7A2F-40EC-BC20-CA05981B5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15C8-E3A0-45DA-9CA6-F5C9813A29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BAB8-6D39-4D8B-8CCD-828A64D19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318C-E24F-49EF-8D29-C5B287AFA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5674-71B8-42C8-BB4E-1472A85030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9BB-4EC6-4625-8249-FAC4077043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EBA4-CF3D-402C-BF36-4455A5BC1F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C9AE-89BB-4519-93C9-03283A6348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02B1-B1EC-4FFC-A820-4B72D3AB8F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31F9-5D6A-47EE-BAB0-9FCE511FD1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3E62-84A7-496B-A326-9370DD293D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D909-35FA-4230-9AE2-D4A5D1D6E4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C396-8214-4990-880F-0146AE492F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C7ED-1948-4CE5-A521-05A0669D14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502-6D2C-4D13-9DC1-33FBBCF83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F23-80EA-40BD-B93A-062C88B049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6E9A-231E-45C2-BEF1-44F94FB60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F084-FEEE-41A8-97C2-55AF162108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0AA1-85EF-4EBD-AAD7-378EDD7259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AC17-A99D-4888-B6A8-209A1AFC81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E294-E4F5-4262-83D5-0ECDD6A18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536D-7B8F-4A58-8293-2AD21B0406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A6B-6CF1-41EA-A9A6-7D267DD435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495E-9517-4F2B-B4FA-1924815413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57C7-FA17-4A42-92FE-B6ED56C83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8138-1F57-4BAA-BA50-9312C45511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7CAB-818A-4D1E-BA3A-F946B7B17F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201F-88AF-47AC-94EE-336DD7010A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69920" y="3056040"/>
            <a:ext cx="880416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93600" y="934920"/>
            <a:ext cx="8956800" cy="194796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2" descr=""/>
          <p:cNvPicPr/>
          <p:nvPr/>
        </p:nvPicPr>
        <p:blipFill>
          <a:blip r:embed="rId2"/>
          <a:stretch/>
        </p:blipFill>
        <p:spPr>
          <a:xfrm>
            <a:off x="985680" y="3736800"/>
            <a:ext cx="7172640" cy="2152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295920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3132000" y="1974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5580000" y="13986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5810400" y="19749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7"/>
          <a:stretch/>
        </p:blipFill>
        <p:spPr>
          <a:xfrm>
            <a:off x="8229600" y="1413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8"/>
          <a:stretch/>
        </p:blipFill>
        <p:spPr>
          <a:xfrm>
            <a:off x="7942320" y="1989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9"/>
          <a:stretch/>
        </p:blipFill>
        <p:spPr>
          <a:xfrm>
            <a:off x="2916360" y="42782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0"/>
          <a:stretch/>
        </p:blipFill>
        <p:spPr>
          <a:xfrm>
            <a:off x="2916360" y="4941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1"/>
          <a:stretch/>
        </p:blipFill>
        <p:spPr>
          <a:xfrm>
            <a:off x="6300720" y="42926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2"/>
          <a:stretch/>
        </p:blipFill>
        <p:spPr>
          <a:xfrm>
            <a:off x="6156360" y="488304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43000" y="1038240"/>
            <a:ext cx="8658000" cy="47815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2376720" cy="3168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857680" y="1960560"/>
            <a:ext cx="14983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148360" y="2637000"/>
            <a:ext cx="3024000" cy="31683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962760" y="1960560"/>
            <a:ext cx="18572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871560" y="1452600"/>
            <a:ext cx="7400880" cy="39528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6985080" cy="29527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362400" y="1600200"/>
            <a:ext cx="17859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0440" y="1324080"/>
            <a:ext cx="8763120" cy="4209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900000" y="347184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826920" y="4724280"/>
            <a:ext cx="777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95120" y="1062000"/>
            <a:ext cx="8753760" cy="47340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971640" y="391968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7993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771480" y="1062000"/>
            <a:ext cx="76010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804960" y="1238400"/>
            <a:ext cx="7534080" cy="43812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187280" y="1816200"/>
            <a:ext cx="583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720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1187280" y="419256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1187280" y="4797360"/>
            <a:ext cx="720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257040" y="955800"/>
            <a:ext cx="8629920" cy="5600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3059280" y="234936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129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3059280" y="351468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5292720" y="351468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2916360" y="413532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5149800" y="413532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0"/>
          <a:stretch/>
        </p:blipFill>
        <p:spPr>
          <a:xfrm>
            <a:off x="3218040" y="472428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1"/>
          <a:stretch/>
        </p:blipFill>
        <p:spPr>
          <a:xfrm>
            <a:off x="5451480" y="472428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2"/>
          <a:stretch/>
        </p:blipFill>
        <p:spPr>
          <a:xfrm>
            <a:off x="2987640" y="530064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3"/>
          <a:stretch/>
        </p:blipFill>
        <p:spPr>
          <a:xfrm>
            <a:off x="5423040" y="530064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4"/>
          <a:stretch/>
        </p:blipFill>
        <p:spPr>
          <a:xfrm>
            <a:off x="1042920" y="5891040"/>
            <a:ext cx="29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81080" y="1190520"/>
            <a:ext cx="8781840" cy="4476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00000" y="3170160"/>
            <a:ext cx="7993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7:1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